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DB0-6DB9-4FC8-84FA-73B3C938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913-6973-4599-AFB0-D0B18192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7FC-4C8F-4054-ACB8-E4986344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70A-7ACF-4DB4-94AF-5692D051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FE14-C33B-4F49-BDDC-48E4BFA6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16C7-3A32-48E0-9E86-01D86A4B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1CAD-7736-480D-A171-1F415BC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69A1-093C-403A-814A-7C2AE255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3CA8-1F9A-40A1-9CA0-6411F729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EEF1-3728-48F0-9CC5-A848A70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C2A5-0A17-4C91-A2D2-882F4FA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9B4-BE1A-46A7-82C8-B574228D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4AC3-E2A4-4140-A19E-BC0513A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6A80-613D-4819-A8A8-E75080B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CB97-B79A-4C35-A1F3-117A9A58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4B9D-35BE-46BD-9261-18333F2A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CEA6-9DFC-495F-B12E-49C58E26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C89-07BD-4559-A2E1-644B8284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4C9-65EC-4774-9C22-177F1607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769-5302-4427-9CE5-F6F0BAF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D97-6E9D-473E-9228-0B3D14DA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64F-4E04-4D3F-8E43-DD4D883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E69-8C1C-469C-941B-594412B7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566-6815-4870-8BF5-AF846C19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5306-9535-49EE-B1A6-7323419CA6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43F1-06EF-4B1C-BF6A-BB8A8DAD4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flickr.com/photos/higbie/2548889526/in/set-72157602786290094/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War and Civil Righ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Gai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Philip Randolph was the father of the Civil Rights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alled by discrimination in the armed forces as well as high paying jobs in government aided busine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a March on Washing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Picture 5" descr="i_am_a_man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038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apr3"/>
          <p:cNvPicPr/>
          <p:nvPr/>
        </p:nvPicPr>
        <p:blipFill>
          <a:blip r:embed="rId2"/>
          <a:stretch/>
        </p:blipFill>
        <p:spPr>
          <a:xfrm>
            <a:off x="228600" y="228600"/>
            <a:ext cx="5676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osevelt / Randolph Comprom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 wanted to prevent the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image and 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inally sat down / 3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’t contracts denied to those that discrimin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sh segregation in federal age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gregation of the armed fo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her Victor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lph’s success breeds more group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 violent/ sit-ins, boycotts, mar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ACP membership gro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, political pressure, legal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5" descr="prod_10263"/>
          <p:cNvPicPr/>
          <p:nvPr/>
        </p:nvPicPr>
        <p:blipFill>
          <a:blip r:embed="rId1"/>
          <a:stretch/>
        </p:blipFill>
        <p:spPr>
          <a:xfrm>
            <a:off x="762120" y="83808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ir Employment Practices Committee (FEPC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power – could recommend a contractor lose its contract but in wartime the gov’t was not likely to cancel contr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PC ineffective against railroa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s with congress (communist) plus struggle for fund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 to end of war funding cut in half and then diss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Picture 9" descr="Labor to Harry Truman by Tobias Higbie."/>
          <p:cNvPicPr/>
          <p:nvPr/>
        </p:nvPicPr>
        <p:blipFill>
          <a:blip r:embed="rId1"/>
          <a:stretch/>
        </p:blipFill>
        <p:spPr>
          <a:xfrm>
            <a:off x="2743200" y="3657600"/>
            <a:ext cx="4343400" cy="243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1008"/>
          <p:cNvPicPr/>
          <p:nvPr/>
        </p:nvPicPr>
        <p:blipFill>
          <a:blip r:embed="rId2"/>
          <a:stretch/>
        </p:blipFill>
        <p:spPr>
          <a:xfrm>
            <a:off x="762120" y="68580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War-time FEPC Record by Tobias Higb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762120"/>
            <a:ext cx="3276360" cy="25905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2548889526_63b636d3bd_m"/>
          <p:cNvPicPr/>
          <p:nvPr/>
        </p:nvPicPr>
        <p:blipFill>
          <a:blip r:embed="rId5"/>
          <a:stretch/>
        </p:blipFill>
        <p:spPr>
          <a:xfrm>
            <a:off x="8381880" y="838080"/>
            <a:ext cx="21276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ment Cam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ing 1942 120,000 Japanese Americans moved from their homes to relocation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 foreign bo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ily singled out and a lack of political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forced to sell possessions and only take a few items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cents to the dollar (approx.500 million los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fe in Cam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m in summer / cold in the wi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released to do jobs in the interior U.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ed to live normal l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spap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y scou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ball lea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preme Cou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ings upheld policies toward Japanes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ry cannot second guess military decis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justices against said it was legalized rac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n the Mo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d from East to West and from North to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ifornia had some of the biggest gains in population with San Diego growing quickest of all Cali c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omtow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 Diego- Naval Fac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bile Alabama- Shipy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population created issu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ough hou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s lacked space, teachers, and mon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and plumbing were unsan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cial Tensions Go Po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westerners call southern migrants “Hillbillie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oit Ri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e 19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rican Americans and sailors f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 day sailors roam the city beating and killing African-Amer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4 were ki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t Suit Ri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er 194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xican-Americans and sail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ilors cruised mexican neighborhoods beating teenagers with bat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ce arrest only Zoot Sui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mily Iss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ms and Dads had to work so children were left to fend for thems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enage workers went to 2.9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+ million dropped out of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 labor laws ign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venile violence and crime jumped exponenti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d of New De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Deal programs ended in December 194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week hours were increased to 48 and other labor laws changed or ignored to help the war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cit spending- using borrowed money, became the norm in order to avoid economic down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sevelt reelected to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secutive term in 19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s now facing America included: housing shortages, overcrowding, breakdowns of law and order, and juvenile c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sue of R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tler’s race discrimination made minorities in the United States aware of the problems here in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qual treatment of African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panese internment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c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f that race determines human capacities and that some races are superior to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beliefs were the basis for segregation and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ience had proven that racial traits were a product of environmental influen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 from south increases political infl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African American ascends the back stairs to a movie theater. Sign says â��Colored Adm. 10 Â¢â�? and an arrow points up stairs. A half-shadowed doorway below the stairs reads â��White Men Only.â�? A large Dr. Pepper ad is painted on the brick building"/>
          <p:cNvPicPr/>
          <p:nvPr/>
        </p:nvPicPr>
        <p:blipFill>
          <a:blip r:embed="rId1"/>
          <a:stretch/>
        </p:blipFill>
        <p:spPr>
          <a:xfrm>
            <a:off x="0" y="0"/>
            <a:ext cx="4495680" cy="36860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tuskeegee_airmen1"/>
          <p:cNvPicPr/>
          <p:nvPr/>
        </p:nvPicPr>
        <p:blipFill>
          <a:blip r:embed="rId2"/>
          <a:stretch/>
        </p:blipFill>
        <p:spPr>
          <a:xfrm>
            <a:off x="3429000" y="3448080"/>
            <a:ext cx="5715000" cy="3409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Segregated Water Fountains [1950]"/>
          <p:cNvPicPr/>
          <p:nvPr/>
        </p:nvPicPr>
        <p:blipFill>
          <a:blip r:embed="rId3"/>
          <a:stretch/>
        </p:blipFill>
        <p:spPr>
          <a:xfrm>
            <a:off x="4381560" y="152280"/>
            <a:ext cx="47624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3:42:50Z</dcterms:created>
  <dc:creator>Eric</dc:creator>
  <dc:description/>
  <dc:language>en-US</dc:language>
  <cp:lastModifiedBy>ASD</cp:lastModifiedBy>
  <dcterms:modified xsi:type="dcterms:W3CDTF">2010-06-29T21:04:47Z</dcterms:modified>
  <cp:revision>6</cp:revision>
  <dc:subject/>
  <dc:title>The War and Civil Rights</dc:title>
</cp:coreProperties>
</file>